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26867"/>
        <c:axId val="19181206"/>
      </c:barChart>
      <c:catAx>
        <c:axId val="64226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1206"/>
        <c:crosses val="autoZero"/>
        <c:auto val="1"/>
        <c:lblAlgn val="ctr"/>
        <c:lblOffset val="100"/>
        <c:noMultiLvlLbl val="0"/>
      </c:catAx>
      <c:valAx>
        <c:axId val="19181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6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0BD-6E9E-465A-935B-F4A480AD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ED7-9DB0-4496-A374-35FEF7D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A84-8727-4FB2-91BC-0F07451B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506-C885-45F7-B55B-7C97D0F0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E21-48E2-4575-A467-43B76757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F2F-B1E9-460A-9FB4-2D1FF17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F07-447C-45D4-B592-256B08B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241-C48E-48B1-A05A-89B50DA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40A-E189-4BDE-B0FC-757CB0D3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237-7B34-4662-BA50-F187F20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C30-2D25-496A-9317-4F54449F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54D-774A-4176-A7EE-3303AB2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A64CC-89EC-4076-BC77-ED1753D9D2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