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7799"/>
        <c:axId val="63450121"/>
      </c:barChart>
      <c:catAx>
        <c:axId val="8187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50121"/>
        <c:crosses val="autoZero"/>
        <c:auto val="1"/>
        <c:lblAlgn val="ctr"/>
        <c:lblOffset val="100"/>
        <c:noMultiLvlLbl val="0"/>
      </c:catAx>
      <c:valAx>
        <c:axId val="63450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7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303-6449-411E-ADB0-ACF9D50A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21F-3E2F-4D41-89FE-E83274CF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FBF-9801-48A6-A4C6-88FA62EA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D63-B8FF-4C2D-B2FB-01FB6402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807-7E77-46CE-9C03-E97AAAD7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A1D-B1B5-4ED1-AAC0-F217749A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52B-30BC-47A0-BC3F-2696CC70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5D9-1D75-404C-A533-EF94F17F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32C-20C3-4C3D-B0BC-AED27DA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099-4A13-47F4-9FB9-EC293D1D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A72-4F7D-4891-B2FE-01E42782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EAA-EE21-4611-AEB8-75471452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DF422-713F-44D3-9D4E-AE07107600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