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842579"/>
        <c:axId val="66811871"/>
      </c:barChart>
      <c:catAx>
        <c:axId val="938425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11871"/>
        <c:crosses val="autoZero"/>
        <c:auto val="1"/>
        <c:lblAlgn val="ctr"/>
        <c:lblOffset val="100"/>
        <c:noMultiLvlLbl val="0"/>
      </c:catAx>
      <c:valAx>
        <c:axId val="668118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425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9382-5B81-4F13-9612-E92D396B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C4C1-D010-4C70-A9AD-1E7FD3E7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7914-23FD-4432-A6D9-807B6419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6B05-79DE-481C-B230-E3AFF4D8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F533-A3E1-43A0-B186-2CA607C0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2E18-8778-4C53-9033-C94D34C5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0511-8058-437E-BAA0-52E67994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72CD-8EBB-4048-9D7D-F33E3370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603A-E265-4771-8B9E-E5B5B9A1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6FB7-E5FB-40BD-91EE-81681603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BB02-C6EC-4786-816B-01BCE95F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0057-EF71-4137-8041-D001C522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6810F-44DE-41D1-A28B-B443C2089A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