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59488"/>
        <c:axId val="95633237"/>
      </c:barChart>
      <c:catAx>
        <c:axId val="975594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33237"/>
        <c:crosses val="autoZero"/>
        <c:auto val="1"/>
        <c:lblAlgn val="ctr"/>
        <c:lblOffset val="100"/>
        <c:noMultiLvlLbl val="0"/>
      </c:catAx>
      <c:valAx>
        <c:axId val="95633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594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43F-9778-4ADD-8DCC-009EC553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913-A464-4C25-A6BE-C7F05AD8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231-7BBC-424D-9DE9-FEE0186F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267-295E-424F-8CC7-5BE35C7A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C4E-FC1E-4944-A958-F9AC9CB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619-B1BC-462F-9C4B-904EE95C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7FE-3470-4110-9C69-718B4A8E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4DA-ABB7-4AA1-9737-87AE53F0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04F-A685-4AE0-90DC-7C038107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563-8A25-4897-BE31-26FB1430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2AB-DF6F-45FD-8AB7-E8260F3E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6EB-723D-4B63-BEEA-DEF41A47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94BA6-9E80-42B1-8E20-64DE69204A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