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47998"/>
        <c:axId val="65748445"/>
      </c:barChart>
      <c:catAx>
        <c:axId val="25479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48445"/>
        <c:crosses val="autoZero"/>
        <c:auto val="1"/>
        <c:lblAlgn val="ctr"/>
        <c:lblOffset val="100"/>
        <c:noMultiLvlLbl val="0"/>
      </c:catAx>
      <c:valAx>
        <c:axId val="657484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79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6C69-3F26-4B0B-B375-BB61CAD9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47BE-F1EB-41C4-AFC4-8B809DCB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3244-3F00-444C-B730-64CE9110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27F5-4491-4C9F-A2FD-1788B3B8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A90E-7F71-46D5-8477-9F611D77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6980-C095-47D3-94E9-9153EFCB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8894-C3D3-4324-8886-1C53A445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1433-0B80-4A29-8D4E-E8C7079D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60E2-0A98-4E96-BA2C-20322AE9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FCEC-6E92-4772-8650-0ECF707D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03AB-2B0A-4881-960E-9258E419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97F6-4AC9-4B77-A02C-3B60CCC6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81D89-8B90-4989-9710-8CF19FD5E0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