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69455"/>
        <c:axId val="46783107"/>
      </c:barChart>
      <c:catAx>
        <c:axId val="54569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3107"/>
        <c:crosses val="autoZero"/>
        <c:auto val="1"/>
        <c:lblAlgn val="ctr"/>
        <c:lblOffset val="100"/>
        <c:noMultiLvlLbl val="0"/>
      </c:catAx>
      <c:valAx>
        <c:axId val="46783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9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20B-DD62-49FC-8BF2-0BC5574D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AA7-8CA9-4161-BB74-86B96806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76D-E698-49F4-9158-D1D5934B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7AB-83CA-4A98-9B0F-D4023436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9DA-C3F0-4CC2-8952-B1D9A16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59B-CD87-4A86-BF63-6021B13E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62D-E388-45C4-802B-1B69F559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F38-1DBB-4013-9E61-43ABD3CE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EC8-0347-45E5-8BC3-90A0F44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775-FB63-4803-B694-C0E7CB8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747-0252-4800-8B28-66D7BBE7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C4E-103D-47FA-A589-61B14EC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81E0A-DAA3-47AE-8CC9-9C95C0AFCA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