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891171"/>
        <c:axId val="47932476"/>
      </c:barChart>
      <c:catAx>
        <c:axId val="318911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32476"/>
        <c:crosses val="autoZero"/>
        <c:auto val="1"/>
        <c:lblAlgn val="ctr"/>
        <c:lblOffset val="100"/>
        <c:noMultiLvlLbl val="0"/>
      </c:catAx>
      <c:valAx>
        <c:axId val="479324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8911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81AC-2D72-4B12-B073-BD147F3EE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0C0F-1E0A-4F15-9BB8-7A72E840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A371-3E5C-4978-8085-BF95AC424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F825-C2A6-486B-A135-2689A24A1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229E-B11E-4151-90B1-605FA094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1B0F-0486-4E11-BD28-A398AD04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C3C5-CF38-493D-B2B7-E778B2AD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AED6-1B30-4C6A-9053-FBDB9AD6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7FB2-FBB1-4577-B01F-3B42866B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DE10-E780-4DE2-B197-FD489C0B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20E2-06F4-48E2-89A3-D59F77BD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18A6-9719-4A8E-95F2-848434F9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1829B-16DE-4393-A50A-7BFF1CE5E6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